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611-7D5C-4551-9BD4-8D1F7205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644-0A55-4117-9BDE-E7406AB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342-0935-44AB-A71C-735E6CF2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B81-C526-49A9-B985-DA95520C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BF3-D554-4F12-BF44-73D99DB8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2729-6237-4272-A6A9-85EF1838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A93-CA3C-4748-B29C-2736177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853-1E3B-43A0-8DF3-FE855CF3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0EF-1C24-443B-9E9C-6BFF060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225-8449-41E7-A0D6-8029AE5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B5A-519B-4FE7-9054-63FF087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378-3A64-415D-A1A0-9F86D8EA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08F0-5A3B-423D-AE56-DB7F1D4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8F3-71CD-4ED9-87CF-36F565A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6D1-9DB2-4A41-8646-FAAF2E80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D574-1A95-4B06-B0A4-7A71F503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78A9-C6EA-4A67-A5ED-EEC326AB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3363-8045-4DDD-8AFD-E5290279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5FE6-5E5E-4277-B509-9816C79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1880-EEE0-4BFE-BEF3-B207C380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7F1B-0BB3-495C-B02E-863405F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8C44-8100-433C-8B7D-F25C647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3DB-B772-4121-BC79-8AF11E5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9D5A-62D5-46CC-9538-C23A522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C642-CC3B-424C-A41C-285606E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17AA-C8AD-4D25-95CA-220A035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2CCD-1D55-47E1-B7F7-7059617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5320-D09D-4495-965B-CC2005CC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4D82-F826-4A46-942C-1C4D1F16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B7CA-1A36-468E-BF9C-7DA2B238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A73A-7B10-4C4D-99B2-DBD282F7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6E89-62E5-4472-91C9-C9854EB4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EF72-B51F-4807-B0ED-E99A187A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072-CB38-4AB9-9FC4-ED99DA8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1678-6077-4567-B1D6-07489543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D6D8-D307-4862-8CB3-EB7B0E2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6928-2B07-42B5-8110-6CD47C35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21C4-1DF2-4B69-AF64-2913221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9B9C-F870-4D96-9850-A632D983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34402-702B-47F3-9724-D9D9B844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C987-729C-4AF6-B4F8-03E2FB57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3FDF-188E-4688-82DF-3AC1D98A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7D21-3B23-4BEE-B314-66665EBA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9DA8-D929-4E23-B667-99D647DA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941-869C-4DC8-81ED-A3CD1E9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8D74-2B0C-4BE4-B19C-7EFEA0A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9B53-7351-48F4-ABEE-E594C4EB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60B3-3534-4320-BC5C-7FE1408F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3804-A739-4E82-8B12-AEDD150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5D10-955D-42AD-8894-84803C2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F725-3C13-4858-9FA8-D2DCC5B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0279-E814-4957-93F0-AE0C535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9607-65BF-43DB-A31D-29B2D40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AF228-6B10-4B31-8964-259DEE1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E92A-1612-43AB-9069-E4274525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2A9-0295-4569-8035-DF233F89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8E6A-D8CF-49E4-BD1C-D71BBCEB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5DB1-B144-4F2F-83CA-2F4D3C6F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2CD8A-F404-471C-9E73-C514A79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445B-752D-4AA4-AE52-502DE4E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0666-3AB6-49FA-8F88-3D006CF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6D292-38CE-412D-ABA0-C539660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D895-0700-40C3-B1B4-FDC7EB56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E63A-AC05-4CFD-AD2A-4BDAB0D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18157-A89A-4489-BDE0-FE316CC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D8CC-FCD2-47F4-83BE-762A309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E80-BD0C-4307-A544-8A7A677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5543-82AF-4710-8DAB-1A99454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D12F9-D855-41B1-B217-8A52DFC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D486-785A-48E5-8FA6-66F50CC8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A36B1-2494-48DF-B7BF-08AF2892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94D5B-4DB8-4596-84C0-5F9399E6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1EA5-9C84-4E2F-956B-F05E3716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0E23-DBAD-4E50-912D-A4FC443E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231E-4FFB-4D6F-8C4C-C8DE792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6DC9-0372-4FE5-A401-0A0F3853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5D006-D0C0-4EAF-9A4F-930DB24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597-245F-4C74-8B14-9F62909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CFD5-712B-43EB-A746-588A90D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AB9DD-DE90-42A6-8207-30182C5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935F-69F0-4E73-AAC0-00F3278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08B27-5EC8-4D05-AF21-E292E666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C283-0303-432A-A901-64035BF8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6B29D-D43B-45B7-B31E-56514304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F2D0-C75B-45CC-B1FB-23498FA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D686-D467-4CD1-98AD-F52942F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C474B-CEC2-4059-A99E-602A4377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5EBB-5F8C-4C0E-BFB4-B7E8BF2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A17-B743-4DA9-BFB6-14776E9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91FAD-4AD3-4DAF-85D6-72688F27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CD89-C513-4813-8C0D-26EC5A6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BCF2-B1DF-4479-9206-3DB1365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EA63E-ECA5-4B1C-B0C8-F2D69B0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1497-68D8-47B7-AB61-563E7A0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4E9C-C823-4F74-85B0-3AEFEF79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78502-43C9-4E6E-AA82-B3DE37EA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F93A-220C-4D8A-A495-FE68704FFDB4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BCA-B7B8-4AD5-B6BA-6B9FE1A1A592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그룹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자유형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자유형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직선 연결선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8CE-1A0F-4775-8CDC-58AA5F46BC75}" type="datetime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41B-85CC-40B8-A45A-FA13F80CFAB5}" type="slidenum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갈매기형 수장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388-5ED1-41D4-BE70-52EDE997B6CF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EE4-F0A3-4F69-8AE8-BBD00B12D282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BC1-6408-4768-B754-2D9BEBFD0A35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0165-22F5-4711-AC29-9AC210A0D45F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E88-59FD-4D4B-93E9-43777ECAC014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83E-F4D5-4DE8-94F8-6B0F835C3979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059-D2D5-48C2-B6AA-7746D593BADC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3AC-F756-41F3-A011-D212C315EB8D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17E-E626-46C9-A48E-6CD3A98EB501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E29C-3A08-4863-8BDF-09EE4A45894C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자유형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직각 삼각형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직선 연결선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갈매기형 수장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690C-4803-4332-8DB3-35494823B8F5}" type="datetime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C66-4AA9-47F5-B070-CEBE5B01C485}" type="slidenum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Screen shot 2011-11-30 at 6.33.45 AM.png"/>
          <p:cNvPicPr/>
          <p:nvPr/>
        </p:nvPicPr>
        <p:blipFill>
          <a:blip r:embed="rId1"/>
          <a:stretch/>
        </p:blipFill>
        <p:spPr>
          <a:xfrm>
            <a:off x="838080" y="762120"/>
            <a:ext cx="7074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3" descr="19981120f-kaigai-e-40.gif"/>
          <p:cNvPicPr/>
          <p:nvPr/>
        </p:nvPicPr>
        <p:blipFill>
          <a:blip r:embed="rId1"/>
          <a:stretch/>
        </p:blipFill>
        <p:spPr>
          <a:xfrm>
            <a:off x="1295280" y="228600"/>
            <a:ext cx="67820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edule CSAT more than once a year to give more opportun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 focus on just one exam but more focus on the overall three years of high school 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ter communication between students and par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happyFamily-Pardee Homes-Carmel Valley.jpg"/>
          <p:cNvPicPr/>
          <p:nvPr/>
        </p:nvPicPr>
        <p:blipFill>
          <a:blip r:embed="rId2"/>
          <a:stretch/>
        </p:blipFill>
        <p:spPr>
          <a:xfrm>
            <a:off x="3124080" y="4648320"/>
            <a:ext cx="28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olpost.com/v/3273127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orldmeets.us/images/obama.punch.taekwondo_pic.gif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cfile7.uf.tistory.com/image/1552D73A4D6746B8186DB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ww5.cao.go.jp/98/f/19981120f-kaigai-e-40.gif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ww.carmelcountryhighlands.com/images/happyFamily-Pardee%20Homes-Carmel%20Valley.jpg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제목 1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8162640" cy="213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The D-Day for all Korean High School Senio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Colin Shin 10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Screen shot 2011-11-30 at 6.01.51 AM.png"/>
          <p:cNvPicPr/>
          <p:nvPr/>
        </p:nvPicPr>
        <p:blipFill>
          <a:blip r:embed="rId1"/>
          <a:stretch/>
        </p:blipFill>
        <p:spPr>
          <a:xfrm>
            <a:off x="1523880" y="1143000"/>
            <a:ext cx="5807160" cy="5410080"/>
          </a:xfrm>
          <a:prstGeom prst="rect">
            <a:avLst/>
          </a:prstGeom>
          <a:ln w="0">
            <a:noFill/>
          </a:ln>
        </p:spPr>
      </p:pic>
      <p:pic>
        <p:nvPicPr>
          <p:cNvPr id="374" name="제목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628800" y="632448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bbc.co.uk/news/business-15662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3" descr="Screen shot 2011-11-30 at 6.09.21 AM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08640" cy="5516640"/>
          </a:xfrm>
          <a:prstGeom prst="rect">
            <a:avLst/>
          </a:prstGeom>
          <a:ln w="0">
            <a:noFill/>
          </a:ln>
        </p:spPr>
      </p:pic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5867280" y="48006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latimesblogs.latimes.com/world_now/2011/11/south-korea-education-annual-college-entrance-exam-required-sil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Korean high school students: bur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ing the CS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tty much determines the colleges available for you in Kore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king hours start at 10 a.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rly morning planes ground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ty streets to accommodate stud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n police cars offer rides to stud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s been quite controversi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praised by President Obama an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others and held up as a role model, it has man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de effec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SAT determines young people’s futur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mperative for a new education system for Korea – focus on individual intere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obama.punch.taekwondo_pic.gif"/>
          <p:cNvPicPr/>
          <p:nvPr/>
        </p:nvPicPr>
        <p:blipFill>
          <a:blip r:embed="rId2"/>
          <a:stretch/>
        </p:blipFill>
        <p:spPr>
          <a:xfrm>
            <a:off x="5791320" y="304920"/>
            <a:ext cx="2825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determines how an individual is valued and judged – by one single hug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’s only once per year, unlike the SA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mendous psychological press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do what it take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ten cause che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sychological burden and excessive st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e of the highe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icide rates among hig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students in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hope of future = depress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Korean parents = education as #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ority in life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2010110501.jpg"/>
          <p:cNvPicPr/>
          <p:nvPr/>
        </p:nvPicPr>
        <p:blipFill>
          <a:blip r:embed="rId2"/>
          <a:stretch/>
        </p:blipFill>
        <p:spPr>
          <a:xfrm>
            <a:off x="5867280" y="3048120"/>
            <a:ext cx="1752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problem = graduates only look f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-end jobs (Samsung, LG,,,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employment rate among young people 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high = hard to match posi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24:53Z</dcterms:created>
  <dc:creator>Susan2</dc:creator>
  <dc:description/>
  <dc:language>en-US</dc:language>
  <cp:lastModifiedBy>Colin Shin</cp:lastModifiedBy>
  <dcterms:modified xsi:type="dcterms:W3CDTF">2011-11-29T22:55:18Z</dcterms:modified>
  <cp:revision>17</cp:revision>
  <dc:subject/>
  <dc:title>CSAT or “Soo-Neung” Day</dc:title>
</cp:coreProperties>
</file>